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EB6-0C19-4849-ABF4-254012C6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6B1-3748-40A7-BDFB-E7033967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3E4-0DC9-477E-B797-9EFDE50D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387-A6D8-4E45-9E84-BE054BB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E37-4BA9-4035-89E3-8D38A1FD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7AB-39A6-40CE-8BC4-73B76D19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10C-36A8-4F33-88E5-F5C3B85C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5A9-6FBF-4E84-AF98-FF126D71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177-A9C2-455D-9405-35022313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B7C-C8F0-46D1-8238-CFFABA6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D91-46C5-4AB8-8A9A-E624AE8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AF6-73B2-44BE-B66A-2D75FC4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B01E-62D7-4A8D-8429-4B23819F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143000"/>
            <a:ext cx="5638680" cy="35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hocola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h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Cook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7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5410080"/>
            <a:ext cx="5790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Wakefield"/>
          <p:cNvPicPr/>
          <p:nvPr/>
        </p:nvPicPr>
        <p:blipFill>
          <a:blip r:embed="rId1"/>
          <a:srcRect l="0" t="0" r="72819" b="0"/>
          <a:stretch/>
        </p:blipFill>
        <p:spPr>
          <a:xfrm>
            <a:off x="457200" y="228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10552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0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6668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ocolate chip cookie is a delicious treat to e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Wakefield"/>
          <p:cNvPicPr/>
          <p:nvPr/>
        </p:nvPicPr>
        <p:blipFill>
          <a:blip r:embed="rId3"/>
          <a:srcRect l="30100" t="0" r="0" b="0"/>
          <a:stretch/>
        </p:blipFill>
        <p:spPr>
          <a:xfrm>
            <a:off x="3276720" y="228600"/>
            <a:ext cx="5486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chocolate chip cookie is made with semi-sweet chocolate chips or morsels and creamy d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recipe for the chocolate chip cookie was published in many different newspapers, including the Boston newspaper for its delicious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little treat is a very popular food throughout the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chocolate chip cookie was included in the “Chocolate Chip” history for its wonderful impact on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609480"/>
            <a:ext cx="8315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ntion: Chocolate Chip Cook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year of 1924, Ruth Wakefield graduated from Framingham State Normal School Department of Househol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ater on, she worked with Andrew Nestle to create a cookie company called Toll House Cook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favorite recipe of Ruth Wakefield’s is the Butter Drop Do cook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any cooking books were published with some of her famous recipes. One of them was called Ruth Wakefield’s Reci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1977, Ruth Wakefield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little while later, in 1977, her cookie house burned down on New Year’s 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00200" y="533520"/>
            <a:ext cx="6162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ntor: Ruth Wakefie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2Z</dcterms:created>
  <dc:creator>install</dc:creator>
  <dc:description/>
  <dc:language>en-US</dc:language>
  <cp:lastModifiedBy>install</cp:lastModifiedBy>
  <dcterms:modified xsi:type="dcterms:W3CDTF">2010-05-12T17:36:45Z</dcterms:modified>
  <cp:revision>7</cp:revision>
  <dc:subject/>
  <dc:title>Slide 1</dc:title>
</cp:coreProperties>
</file>